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D82-3E50-4259-9322-D2FA489B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ADA-22AE-432A-8CB8-1067601F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057-9E95-486C-8AED-73C08A15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AF4-8E9C-49AB-BB71-FA198AF2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89A-52C5-4301-8302-6D324245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18B-3A21-475C-9230-DD69F4C5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56F-FD91-43E7-9D86-5B50BF49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637-DFB2-469D-B3C7-A12C780A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A0D-D7F5-4766-842A-BCB492DB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5D7-3076-46E8-A743-23631246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D86-5557-48DF-8E86-E570D9E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2F1-0BE0-4F6C-B05F-F6DF712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347A-23FC-40B6-9FC0-052B1488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 Clase 801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14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oposito # 18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omo repasamos para l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ueba: Repaso 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 juev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antos años tien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antas personas hay en tu famili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Tienen uds. Una casa o un apartame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antos cuartos tiene su casa o apartame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al es tu cuarto favori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III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a _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_ un sándwich de jamón y queso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isa __________ la televisión en la sala. (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Sr. Gómez _________ la comida en el mercado. (compr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_ en un edificio. (viv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IV-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raw a floor plan of your house and label all the 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MIS POSESIONES FAVORITAS Y UN RESUMEN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Quiz THURS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/ 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"/>
          <p:cNvPicPr/>
          <p:nvPr/>
        </p:nvPicPr>
        <p:blipFill>
          <a:blip r:embed="rId1"/>
          <a:stretch/>
        </p:blipFill>
        <p:spPr>
          <a:xfrm>
            <a:off x="990720" y="19051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990720" y="196920"/>
            <a:ext cx="739116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19810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8580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you-singular"/>
          <p:cNvPicPr/>
          <p:nvPr/>
        </p:nvPicPr>
        <p:blipFill>
          <a:blip r:embed="rId1"/>
          <a:stretch/>
        </p:blipFill>
        <p:spPr>
          <a:xfrm>
            <a:off x="685800" y="2036880"/>
            <a:ext cx="4038480" cy="2936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396040" y="2057400"/>
            <a:ext cx="29858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sombr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"/>
          <p:cNvPicPr/>
          <p:nvPr/>
        </p:nvPicPr>
        <p:blipFill>
          <a:blip r:embed="rId1"/>
          <a:stretch/>
        </p:blipFill>
        <p:spPr>
          <a:xfrm>
            <a:off x="685800" y="24433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368"/>
          <p:cNvPicPr/>
          <p:nvPr/>
        </p:nvPicPr>
        <p:blipFill>
          <a:blip r:embed="rId2"/>
          <a:stretch/>
        </p:blipFill>
        <p:spPr>
          <a:xfrm>
            <a:off x="5410080" y="2971800"/>
            <a:ext cx="24386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505320" cy="254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5543640" y="22096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 aho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962520" cy="28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HCA016J"/>
          <p:cNvPicPr/>
          <p:nvPr/>
        </p:nvPicPr>
        <p:blipFill>
          <a:blip r:embed="rId1"/>
          <a:stretch/>
        </p:blipFill>
        <p:spPr>
          <a:xfrm>
            <a:off x="5334120" y="2666880"/>
            <a:ext cx="2361960" cy="177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i"/>
          <p:cNvPicPr/>
          <p:nvPr/>
        </p:nvPicPr>
        <p:blipFill>
          <a:blip r:embed="rId2"/>
          <a:stretch/>
        </p:blipFill>
        <p:spPr>
          <a:xfrm>
            <a:off x="990720" y="228600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gorra az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30968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7153200" y="1752480"/>
            <a:ext cx="1762200" cy="1592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2209680" cy="15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2666880" y="4343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4724280" y="4038480"/>
            <a:ext cx="2067120" cy="221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7162920" y="4724280"/>
            <a:ext cx="1614240" cy="1216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144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41596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462600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835680" y="3290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7776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2644560" y="6172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4649760" y="62485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7011720" y="6186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http://flxitsolutions.com/wp-content/uploads/2014/09/clipart-sandwichsandwich-20clipart-clipart-panda---free-clipart-images-bio5k2sx.gif"/>
          <p:cNvPicPr/>
          <p:nvPr/>
        </p:nvPicPr>
        <p:blipFill>
          <a:blip r:embed="rId8"/>
          <a:stretch/>
        </p:blipFill>
        <p:spPr>
          <a:xfrm>
            <a:off x="4797360" y="2243160"/>
            <a:ext cx="19843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29080" cy="163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3124440" cy="238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04920" y="4081320"/>
            <a:ext cx="2514600" cy="173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4"/>
          <a:stretch/>
        </p:blipFill>
        <p:spPr>
          <a:xfrm>
            <a:off x="3352680" y="4038480"/>
            <a:ext cx="2657520" cy="1724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228600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82600" y="2286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25440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55488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44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3201840" y="579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7680" y="580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http://images.clipartpanda.com/soda-clip-art-Gerald_G_Fast_Food_Drinks_%28FF_Menu%29_4.png"/>
          <p:cNvPicPr/>
          <p:nvPr/>
        </p:nvPicPr>
        <p:blipFill>
          <a:blip r:embed="rId6"/>
          <a:stretch/>
        </p:blipFill>
        <p:spPr>
          <a:xfrm>
            <a:off x="7446960" y="900000"/>
            <a:ext cx="8841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7:41:09Z</dcterms:created>
  <dc:creator>Helen Zumaeta</dc:creator>
  <dc:description/>
  <dc:language>en-US</dc:language>
  <cp:lastModifiedBy>Helen Zumaeta</cp:lastModifiedBy>
  <cp:lastPrinted>2014-10-14T04:22:04Z</cp:lastPrinted>
  <dcterms:modified xsi:type="dcterms:W3CDTF">2014-10-14T14:59:05Z</dcterms:modified>
  <cp:revision>12</cp:revision>
  <dc:subject/>
  <dc:title>Slide 1</dc:title>
</cp:coreProperties>
</file>